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8A6-690D-4617-8BCB-C73A78DB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70D-8DB6-4A47-B42D-7CBE82CF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4F623-B916-4AD7-8034-EA5E530E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303D5-B6D4-4FEA-B2D4-68EF8DCA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36E59-4147-4135-A004-4FEC8EFB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93D90-9A8E-4B7B-95AC-1F058034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34933-B03A-485F-8F68-EDA1188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67C09-E16A-40E0-94EC-E2AC2FB4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EE6AB-562B-4CE6-8538-717BD628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3949D-21C2-471A-9A77-ED65BFE6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6C0EC-75F0-4FC4-B403-9FE0648E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C5144-0968-45FE-8697-64B6BCEF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721-5E7D-4344-B830-7862CEAC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F5499-72AB-48AA-8811-CB8425D4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172BB-BF77-492D-A495-BF2514AE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5AB22-92DC-42B7-9DD0-703CB15F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7A8D5-1BDE-425A-9D94-725D6AF6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82A9B-7906-495D-82BB-66065C24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39B1A-81FB-4958-899E-540BAA1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DE010-9E85-418D-8FD8-9C7E12EE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E3DF6-14C5-4754-AC32-841B6957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9BFFD-2C40-4081-98F8-43FF13A5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8C0F2-CAF4-45E1-8EB7-CF82E81E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F84-6299-4B3E-8206-70D8F20E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2C88C-C1A3-44AD-9794-DE3A1B59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D755-B23B-4198-9694-F3D6C3EB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6977F-6D26-471F-8C82-38188396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5A03B-20B8-4782-B7C2-84F70F87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95BCF-52D1-4677-A049-33225081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4A36E-148E-4A0D-A4FC-7D8D0E1B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62D77-8356-4C90-ACFF-7FB044B6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A859F-8814-4F17-912F-D62117C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82E19-CF88-4680-91ED-58E4CA8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5776E-D0CD-48FB-AD5C-354162F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5C5-90A2-4325-9587-F2C33C74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C1708-7F21-48CE-A605-A8F85627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97407-3652-470F-964E-88F700B7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D739D-A2C3-461A-B90E-17D61DBE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A9CB6-2789-404A-88B6-934D0D10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F8187-8F19-463E-A09E-C98F7674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950B7-FA71-4650-8C47-0190DDE0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CC2B1-FAE3-4ED2-BEA4-5B76E7AD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05BCF-A6FC-43D7-8F7E-438108EE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914D2-3F52-4CF2-AFC9-6729EB26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2AC3D-9A01-4789-9859-5F515D6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C4BC-7261-459B-8DF2-18A8C799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05D9A-42EA-4154-BDDF-E47CB2E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83BC8-F774-44DA-B17E-679E6131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5CBBC-BB74-4CD6-B976-DD51EFB3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C0618-643B-48C1-9F57-2CD556E0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533DA-0ACB-4449-B872-ABF94FED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438F8-4594-4F20-9C78-27C5B80F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85F45-1E53-45A1-B625-284F9C20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47E1A-6BDE-4FFC-B036-392ECCE0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BF51D-D33B-488A-AAA7-E6CC4901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AB818-9ECD-4030-83FD-1F9685C0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578C-188A-4579-A226-F0E311A6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01DA6-258C-48DA-8B4D-FF69215A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095AB-D55A-448B-A8D7-F029D13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8A488-20C0-403C-A88A-63C48E3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FB6E8-7FD3-4240-A424-F4FD1F8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99849-BD6C-4B80-8A2E-F94A3922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DD99A-8A3F-44FD-A3AB-92F2E7CF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FC7D6-4683-40E8-90AC-B36ABDB8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E3061-4249-4973-90BE-31A5B945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0AFA2-6617-48DC-AAC6-82BABD0C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F3F75-2EEC-4F68-A71E-2D4ED540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A807-B726-4961-84D1-A3A73660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55468-E99B-46A8-B400-1021993F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4F2D6-9176-40A8-A3E7-1EF646E4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1F1AB-C1DC-4532-9FC9-1AC9A667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EF2A2-565D-463C-995E-8D23A133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F5F24-C59C-415C-803D-69E69B4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043CF-754B-45ED-A1C7-A977952B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AE7B2-7939-46EA-BCBB-04A8B0C9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185E7-04DC-4816-8BF8-170E83A4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65C1D-2088-4429-B355-3E3C7885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78E5E-1424-47A9-822E-0040A386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FFA6-164C-41F4-956F-094E6B1F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14BDB-3A0D-4FFD-B0C5-E82E089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71AEF-AC67-4FE5-9E9B-407377C2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08348-1DA2-4FB3-8B37-610562CD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41D67-F443-4ECF-933E-641E9CF6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23C4D-E52B-44AE-A46E-B0460C72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3B65A-6F6C-45CC-9235-B1950121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2A2C9-0788-499D-97E9-4E06E2D4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1F9B7-0153-4524-8B4B-5DB5414C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0B7E43-46F1-4010-9591-DBDCEB7A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4199E-0448-4CE1-9C42-CF3DDAAA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855C-ED4A-42C0-A128-0C2D43A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16A39-541C-4CF9-866B-D9B6A05E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10ED5-1E62-4D70-B41A-6B8B402E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E49AB-EEE6-47AA-8728-1E6EF4C1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A3071-E9D6-4F05-9536-868D9B03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EE2C0-BDBA-47FC-AD53-5918A56C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7F4B1-1793-4501-AE2D-E8754503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108EC-656F-4B3B-B5E0-AD5DCE77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EB407-00F4-49C3-AEDE-2B0C227B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2269A-E49F-44AC-B093-AC1856A3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73885-B0CE-4F5E-A81B-565E31C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A51E-5459-4EA0-8D8F-BDDEF2C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3F639-CD09-4C89-A76F-9B64B669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DEE3E-B83E-4B49-AD09-ECEB955C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E22B6-F1FC-4C91-A5AD-A52367C7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5A6CC-A530-4754-9313-DC275901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3EE6C-B7EC-485F-83A7-99E42F0E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F50AB-A140-48C5-BECE-3AA66985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120F6-9BD2-4217-929D-5114188F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E42B2-145A-4B04-A02E-6A5920D6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C0973-FB94-4196-BED9-F553465D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5D989-308F-49EE-89B2-F574B4BD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C09-BC01-4308-AC51-34EAB5B8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B32E-5013-43A6-89D8-E1D0AEC3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53426-E441-4F2C-A4D0-96EC24EF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C4321-9EF8-43D8-8A4C-32618A9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7FD16-222C-47E8-BE68-0E190255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3368C-045F-4946-9B79-39325C72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13995-340C-4A19-BC75-BB34DC01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58059-103E-4B6A-958D-D4A3C2DD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C3DE4-5EA0-420C-BB8E-05B0AC1C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06D74-72CF-42D2-9F2D-5BB0E0F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1BE90-F8FF-4407-8BCE-B164A964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B7A91-1030-4D11-9770-0D283CF1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AB22-215E-439A-994B-C412B6B4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A1179-7481-47FA-9342-34C979EA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316C6-0F7C-444D-B343-8CCB3F8D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EDA7F-7B11-48DA-99A1-D5BC512F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D17AF-DD46-4CEF-8008-EC98622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0DF67-7E8F-4CCF-B512-EC748EA1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D9AF6-5021-4F54-82F1-79CE2BE4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AE3D9-E7EC-48DC-B36F-D696B64A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20EF4F-E309-4B3F-B25F-BF2B2DC1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B8E891-36EB-4F62-8205-6ACD074A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D316E-024A-4716-9CA8-A4A75F98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9217-9361-499F-9779-888EA4A2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96A1D-85CB-4D30-B206-3270641D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1A20C-4426-4BD6-98C1-26DBB668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52932-2C35-4A78-9766-7DA608AA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3ED18-EE52-48FD-87A1-9FA3FF44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29530-8423-4053-B53A-F47CD885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61BC6-3E1A-4587-8DAB-72F425CA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DD57B-EFCA-4575-93A1-1A66CB88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CC62C-1A4F-415D-8C3B-AC50223D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51B1A-F3F2-4C23-8583-EE11740F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BDC42-1954-4A88-BE58-F9132859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D564-8430-41B1-87DF-73352069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AC31C-51C9-4E95-9EF1-F7A7C4E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3EAE2-C6BF-4CCD-8CEB-C2E7AEB9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4C0E5-CEC5-4A5E-A354-830D072E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08E15-4819-4CA0-A675-4062C179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29E50-8258-49E6-87FD-BDEE4503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E9915-36AD-4CCD-952A-BF225F6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2A332-9AF0-4770-A4D4-53E57EF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3E044-FF84-4419-85E8-810FEFAD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00AD4-14E0-40AC-8AB6-DAC2A4F6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F477F-1082-4179-BFEF-8C2BD852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DD89-D036-49CE-B9BB-EC8D7D1C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8B282-C3E6-40EB-AE10-2735B141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A637DC-7E0B-4BFE-93BE-B479DD4C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C14C3-0CCB-4C76-8AD9-87E253F8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A2C79D-B3AC-4E0C-8056-C9772A25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BC9CD-4687-4404-85C2-92FF46B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8D7CD-1D55-4611-92DF-27732DD8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B956C-DC2C-46A2-9EB4-3F45B490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591C4-59D5-4524-9D7C-248B2C7F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D9202-CD5C-45F5-BFB1-BF0A1ED9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4E61C-2039-4A6B-AF07-592A822A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023D-D768-41B1-BE19-DEF3B54B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B4AD5-8BEE-4EDF-8548-7EEC2A92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D23870-E476-4ABB-89F5-628CD31E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CCCC54-B094-4610-BCE0-9D6376B0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2B1BF-F43E-4845-A15C-629D95C1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8278-B1FB-4264-9FF7-469E6B47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CFEB-CB33-4049-BFB6-BDC3863C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8755-C8AA-4212-A363-49CD196C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31C-6CC1-48D6-A444-91639899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85F4-E28D-4A51-B611-C210C04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E3A5-4B4E-4617-83BA-007B41CE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5A80-699F-4A67-9328-A0DB6E6C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FD5F-7F54-44AE-BA23-DCCF8966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4C89-A28F-4831-9A60-2188FFD8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7492-74F4-43FE-B153-82AF894F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821E-74AB-42CE-9757-DF4EC24C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6FA3-1B42-497C-8775-848FDFE1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6582-46E6-4813-84F1-441205C6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1821-6EA4-4E8D-8171-5D3FA494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994-8ABD-445E-A85E-C0D481B8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850E-9060-48D2-B1BD-56457502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ACC4-8BC2-43F4-AC3F-9A231C75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4E89-BB62-46F6-9378-E6771A10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3FC93-706F-4ED9-A5E3-2F7DF4B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CDE4-0310-4A43-93EF-8BA31B5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930A-676F-4588-A9EB-E08E786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083A-E993-488C-9EF5-EBA697A1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0813-4E01-4E30-88AE-6718F267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C476-D1FD-459F-B635-7D0CA733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A9AB9-1482-44A5-BD2C-E6BCE792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781-15BB-46F5-B3E3-29C4A4A5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834F9-BC70-4BAF-A1AA-D0E4F6F2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88F09-419E-4879-8160-E4F3E07D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5688-4382-4386-9299-A80607F0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18FF-E108-4D64-A113-095BBCA8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359F-5729-4524-BA05-869F7D4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45264-D470-42DD-8CDE-903F8C5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D5727-A4E9-4000-AD0A-674AC3D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67F0-4FE2-4590-91DE-5899D5D6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7053-9051-45F2-ADB7-38E49B15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F0A0-A415-4127-AC5E-B7AE4DB3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C65-43CE-413F-85AB-3CC3ED00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6F1E-FC61-44CF-9B16-6813328A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263BA-27F2-40E1-8F80-6B0A71F3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3F576-C702-4887-9FAB-521E5BEC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A6CA1-409C-473D-BEB9-A55CBFC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E2AE5-9EED-45B4-9CC1-FB67B8B8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D892-EAD9-4839-9496-50EF8EB6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4AC7E-AA67-4B87-B23F-F7A9F3E0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421B8-A56D-4CA0-8E8C-A3ACE3CC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F5C4A-9470-45EB-B546-BFBF8EC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60118-233D-4A01-8C66-397F7EE5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B3D-1FDA-4BF4-B2DE-911C7D3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A8052-0DC3-4C9D-A2DC-141E7A70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02D24-28B3-4DBD-ABA6-8B07F3EA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B7C9D-0160-4E48-BC88-55EC5770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2B89-43CF-44DA-A122-C7F0ECF9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AAED-39D0-45B8-BD4B-CE936B9B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3B62E-5F57-4475-A80E-D49A6166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895AF-0B33-4F08-BE63-CAEB0E4D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E7E63-EEB7-48AD-8F3A-73183EFA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93988-A82F-4A4D-8585-D5CFF1BF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52225-4418-46C0-A33D-A356E288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CCF-7A6A-46BB-97A4-DF4C1C2E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F580-D1C4-45F9-9237-34640BD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36A25-C9B4-4711-B744-7E1C1E78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F0A74-07BD-4295-8663-753A755C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8E82D-4EC4-4327-BAC6-197848A8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B3A64-C76F-4591-87B6-F082A9E1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B3818-EA86-43F5-9DE3-FC36D5D4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32DAF-13A1-4728-91C1-09FB0EDE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4F55-7C05-411C-AEB1-D83C6BD7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8CFB9-0139-479C-9FAD-3BD92CFF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CD7ED-2D31-4811-98D9-8B5708CD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9C9-1F59-4A4A-A80D-45263FA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0811F-6697-4868-9E00-52F5252E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9586B-FDB8-4D82-BD62-027D6C8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BC6B9-1D0D-43D1-A0BF-7087999B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649B9-D76E-434E-BDBF-95E8D03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30C33-2C82-4FB9-8706-91B88F72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27D17-F20B-46A3-A4E8-19D0302E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117CC-FB5B-430A-9D5F-CAA20CAA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1069E-1322-4E47-B38E-03544222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B8634-5DB8-48FE-A1E2-B315183B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9E3E2-521D-4599-8A98-3430EA54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DDCD-4DF9-4680-92E8-C5BAB818EB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EE1A-21FE-4C7C-97E7-A226A9657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EA72-0CF8-47E5-89A3-7A486281D0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6635-0FC5-44D8-808D-B88FC2401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3D05-3A98-4CD6-A4CC-F45498755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E2B0-157A-438E-89D7-5149C9D3D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4FDA-664F-416B-B70F-6261F8A0A7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9E4E-2EA4-488C-BE85-A08FB70E4E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BFFC-3964-4DA7-B733-76495A001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208A-13A1-4B46-940D-326EAD8CD6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892D-CF9A-4C81-B0BD-4782E45945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0A7A-85CA-4044-8180-441054EA5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2900-0C29-4312-908B-84E5C51E0B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F0F4-6FC1-447E-9C78-46D1D0903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5740-477C-4CF7-8878-81A7165043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30B1-F6A2-457C-BB72-C3093D7C48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09A5-2878-43FA-B740-2FA79808E6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7F77-5BCF-4B6C-9684-5638B9D9A0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B0FA-BCDB-4A7D-B9A1-F99D5A97B5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A49E-C824-4D51-9EAF-D3F9C239C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F69F-DE88-4E65-BBC2-A0F3A957D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DCB7-BD54-412D-9042-42FDFEC329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F3E8-3A59-4C3D-A834-5EF657152A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71F5-70F6-4D58-9A85-DB38C703F3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252D-D344-4B6D-95DA-59DBF51CAE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86D4-36F5-4003-BAF3-F819D8B202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C67-B952-4D1B-AE0E-DB5288E0A6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EC8-5DA6-4206-B84B-E9D13DA836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006B-1080-4990-8B68-720A996BF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252C-1803-4DF7-BD69-1D1131D773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6EBB-F8EA-48B9-8CE6-7EFDFCA91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2831-35DB-4E6F-862C-BADE25996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7C30-EC60-4706-B544-9BDC2EACA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DA01-066A-4D70-8397-039E2E2C9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9293-6EF2-48D9-9A35-6B1D2453FE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5ABF-65DB-4584-AED2-762B00BF8F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53C7-FD61-4116-81AA-FEBC528B9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9CD6-9C26-48C9-B39A-4451B06114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A174-5F9E-4E19-9E93-00F2040C01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A981-C0C6-4BB1-BAD4-3DB505499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95400" y="3147840"/>
            <a:ext cx="535320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81080" y="1185840"/>
            <a:ext cx="8781840" cy="4486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8244000" y="2340000"/>
            <a:ext cx="576000" cy="25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46280" y="3645000"/>
            <a:ext cx="1152360" cy="1871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979640" y="3583080"/>
            <a:ext cx="1297080" cy="1871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763640" y="3251160"/>
            <a:ext cx="576360" cy="255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492360" y="3645000"/>
            <a:ext cx="1152720" cy="1871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88000" y="3573360"/>
            <a:ext cx="1296720" cy="2016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572000" y="3255840"/>
            <a:ext cx="1008000" cy="255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300720" y="3645000"/>
            <a:ext cx="1152720" cy="1871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524720" y="3573360"/>
            <a:ext cx="1295280" cy="20163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370640" y="3232080"/>
            <a:ext cx="100836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152280" y="923760"/>
            <a:ext cx="8839440" cy="5010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116000" y="301608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780000" y="300672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4505400" y="1413000"/>
            <a:ext cx="1506600" cy="1871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443640" y="300672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7361280" y="1413000"/>
            <a:ext cx="1506600" cy="1871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826920" y="4518000"/>
            <a:ext cx="1873440" cy="255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5724360" y="4508640"/>
            <a:ext cx="1873440" cy="255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684360" y="5526000"/>
            <a:ext cx="295092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128520" y="2224080"/>
            <a:ext cx="8886960" cy="2409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3743280" cy="255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68360" y="3770280"/>
            <a:ext cx="3743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08:4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